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625-5037-4A56-9405-DF070829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515-BF31-465E-B450-04DB7D14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891-58CC-499A-AED4-19DD3308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77A-AB31-420D-89B6-4EACDEF1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9787-E67D-491E-BB00-53B51D64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100E-22C2-4F5F-B37C-13C825EE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973B-0E71-4C90-865E-41EB2778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DFB1-A89F-495D-A555-C6F62DBC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AFDE-34AE-4733-A25B-6C40EA7B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7A1A-BBCE-4554-8D46-2110B6F3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A81C-20F6-445E-A7F3-BC59526B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5C3-C921-4D01-B659-667F0DFD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E15A-91B5-40D7-A5A1-8D85F7E0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018F-6C6E-43C8-A99D-AE5E717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D59A-7284-48E4-A002-0D6008CC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17F2-2D3E-4393-9097-A16CEB94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10F7-21BE-46A1-B8EF-C04BA643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6ADC-C77E-4692-9044-B07AA08B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7E6-1ECF-42E2-BC3F-F6B3D4B7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38C4-15DD-4EB1-8A7A-2C3E8FB4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F14-7AC7-45E7-BB8E-30980DD9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F998-B574-4BEC-8111-B0C779C5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EC5-9D68-49DB-820D-342E9656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5FF-FFC3-479A-BB66-0F0741F5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7402-0B09-4DCA-B60F-56D51BD4ECB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72C7-9762-4B4C-B208-B767EAFD899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010120"/>
            <a:ext cx="5580000" cy="184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0000"/>
                </a:solidFill>
                <a:latin typeface="Tahoma"/>
                <a:cs typeface="????Boutros Rokaa"/>
              </a:rPr>
              <a:t>يا من قا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859280" cy="1179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نا القيامة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ن آمن ب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حيا وإن ما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1106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حن الذين لنا باكورةُ الروح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نئنُّ منتظرين التبنّي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فتداءَ أجسادِنا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211640" y="154080"/>
            <a:ext cx="4211640" cy="130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إذا كان أحدٌ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ـي الـمسيح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200" spc="-1" strike="noStrike">
                <a:solidFill>
                  <a:srgbClr val="000000"/>
                </a:solidFill>
                <a:latin typeface="Times New Roman"/>
                <a:cs typeface="Akhbar MT"/>
              </a:rPr>
              <a:t>فهو خلقٌ جديد.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5796000" cy="129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ا من قام م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ن الأموات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حْيِ أجسادَن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وحِك القدّو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55:35Z</dcterms:created>
  <dc:creator>Charbel Azar</dc:creator>
  <dc:description/>
  <dc:language>en-US</dc:language>
  <cp:lastModifiedBy>ف</cp:lastModifiedBy>
  <dcterms:modified xsi:type="dcterms:W3CDTF">2006-04-17T20:34:29Z</dcterms:modified>
  <cp:revision>10</cp:revision>
  <dc:subject/>
  <dc:title>Slide 1</dc:title>
</cp:coreProperties>
</file>